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01A-B53B-4033-96A1-ECC534CB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42B-A5B6-402D-B8D6-01428F49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724-8737-41CC-8C63-8577533F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7DB-04E6-49FB-ACB8-5490EB9C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1B82-55A0-42A7-86FE-8FD81537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59AC-BD1A-47B8-8E22-1DF0DC43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D41D-1EA9-4DC3-9F40-2185CC53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4532-295C-4673-AAB8-BCE2C12B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9F93-6746-410C-912E-390C6F1C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49FF-853F-4A2C-9845-B53573F9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1151-54EF-4E0C-B5C0-ECC44F62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AC6-6A61-409D-9855-9326DA5E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2162-01CC-4D1C-9655-5529A57D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86A5-AC50-4275-A4DD-8212F834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8D50-4CB0-4B11-A276-7C82E7DE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8EC9-5887-4A24-BC6E-C437B964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4422-62F0-4D77-9135-7A4A580C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266-C364-477E-8103-75F95D1F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59B-E6B1-41D6-8D5D-F3F21BE3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76B-3416-4F52-9154-8953805B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85A-11AD-42C9-8DE2-8CCCEF61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4FC-4EE5-4372-92CB-D554AC59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FC2-7518-4696-9C00-F0E67C50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137-2053-4143-AEBB-194EDE20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017A-F207-4288-85E4-8100E1B29F6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4A68-2FF2-4AAF-ADC8-DE55BAC2E94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gration of Tissues – Color Co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– Epithelial </a:t>
            </a:r>
            <a:r>
              <a:rPr b="0" lang="en-US" sz="3000" spc="-1" strike="noStrike">
                <a:solidFill>
                  <a:srgbClr val="ff9933"/>
                </a:solidFill>
                <a:latin typeface="Arial"/>
              </a:rPr>
              <a:t>OR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 – Connective </a:t>
            </a:r>
            <a:r>
              <a:rPr b="0" lang="en-US" sz="3000" spc="-1" strike="noStrike">
                <a:solidFill>
                  <a:srgbClr val="ffff66"/>
                </a:solidFill>
                <a:latin typeface="Arial"/>
              </a:rPr>
              <a:t>YEL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 – Muscle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 – Nervou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lexion or Extens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lexion or Extens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60958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lexion or Extens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36800" y="1219320"/>
            <a:ext cx="3422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Cooper Black"/>
              </a:rPr>
              <a:t>Tissues </a:t>
            </a:r>
            <a:r>
              <a:rPr b="0" lang="en-US" sz="2500" spc="-1" strike="noStrike">
                <a:solidFill>
                  <a:srgbClr val="006633"/>
                </a:solidFill>
                <a:latin typeface="Cooper Black"/>
              </a:rPr>
              <a:t>(STUDY GUIDE pp. 4-5)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 = a group of cells that have a similar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Epithelial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ms coverings, some secr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 skin (epidermis), organ coverings, throat lining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Connective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ills spaces, conn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 skin (deep layer), fascia (deep tissue), ligaments (connect bones), cartilage (between bones), bones, blood, and f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Muscle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roduces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 skeletal muscle (attached to bone), cardiac muscle (of the heart), and smooth muscle (in orga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) Nervous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ends 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: brain, spinal cord, and ner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ame the tissue that makes up the brain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33051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ame the tissue that lines your throat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46958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ame the tissue that causes your stomach to contra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952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ame the tissue that composes bone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4956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scle Mov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943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eletal muscles are found in pai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uscle causes flexion, or b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cond muscle causes extension, or straighte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uscle must contract, or shorten, to cause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ntraction of one muscle forces the other muscle to stre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cles pull, they never pu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462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lexion or Extens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4864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6:06:31Z</dcterms:created>
  <dc:creator>marguerite.marcoux</dc:creator>
  <dc:description/>
  <dc:language>en-US</dc:language>
  <cp:lastModifiedBy>marguerite.marcoux</cp:lastModifiedBy>
  <dcterms:modified xsi:type="dcterms:W3CDTF">2010-09-15T19:08:25Z</dcterms:modified>
  <cp:revision>4</cp:revision>
  <dc:subject/>
  <dc:title>Tissues (STUDY GUIDE pp. 4-5)</dc:title>
</cp:coreProperties>
</file>